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44F-170D-405B-8A25-A4192A8E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1C4-D50E-4CB8-85E4-62FA38C2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11B-3C3A-47D8-8D17-2944AC04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97F-CCB4-49A0-BC9D-170D9673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0D8-4B79-4534-840C-3C028C4C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054-6BA5-4CD3-B23E-34E401EB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0EF-1CA8-45A9-8796-7A8DB982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CC6-90D1-4C85-B135-F7592BE7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77E-E79A-4676-B2E5-D7E011B8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5D6-2F43-4E47-B9BE-D8311C79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DE3-27CB-423E-AF1D-F1E347D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E34-50C3-4A1C-B9F5-7115EAB3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77BC-0A75-4EFA-8822-A282BA9DE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127" t="10420" r="12500" b="12502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562" t="10420" r="11721" b="125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344" t="10420" r="11721" b="13540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562" t="10420" r="59378" b="38544"/>
          <a:stretch/>
        </p:blipFill>
        <p:spPr>
          <a:xfrm>
            <a:off x="1066680" y="358920"/>
            <a:ext cx="662940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9:12:59Z</dcterms:created>
  <dc:creator>nbdoe</dc:creator>
  <dc:description/>
  <dc:language>en-US</dc:language>
  <cp:lastModifiedBy>nbdoe</cp:lastModifiedBy>
  <dcterms:modified xsi:type="dcterms:W3CDTF">2007-02-19T19:32:40Z</dcterms:modified>
  <cp:revision>2</cp:revision>
  <dc:subject/>
  <dc:title>Slide 1</dc:title>
</cp:coreProperties>
</file>